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74320" y="698040"/>
            <a:ext cx="4599000" cy="344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36960" y="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36960" y="877104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000" bIns="450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77104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3008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76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422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a Server Intern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ter J Br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nodes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cvnode.h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&amp; large: large for directo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ce is ACL at back of large v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nodes: is RVM address of dir i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M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vnode’s with hash table, freelists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nodes in R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VM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nodeDiskinfo (rvm_malloced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odes sit on rec_smo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ink points to a DiskVn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link vnodes with identical vnodenumbers but different unique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vnodes grabbed from FreeLists (index.cc, recov{a,b,c}.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s have arrays of rec_smolists which grow when they ar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nodes in 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FSObj calls GetV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is d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FS Objects cal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vm_begin_trans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Vnode - copies data from VM to R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vm_end_trans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ng a vnode takes 3 pointer derefs, possibly 3 page faults vs. 1 for local file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is necessary? Probably not. Cure it: y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ories (rv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I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table and “copy on write” ref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Pages 2048 bytes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up the direc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ded into 64 32byte bl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table for fast name looku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of free blobs per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or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han one vnode can point to directory (copy on wr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M: hash table of Dir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VM contiguous copy of 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DirI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lock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: as for volumes &amp; v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que: too bar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ode references file by Inode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s are copy on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“FileInodes” like dir inodes, but they are held in external DB or in inode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always reads/writes whole files (could be exploit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init and salv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volume hash table, serverlist, DiskPartition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e through partitions, check each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of i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inode has a v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vnode has a directory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directory name has a v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volume in a VM hash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ver connection inf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 of HostEntry (a “venus”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a linked list of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a callback connection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binding creates a host &amp; callback co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binding creates a new connection and verifies call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RPC2_NewBinding &amp; ViceNewConnect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lba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table of FileEntr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ntains F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ed list of callb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backs: point to Host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C: BreakCall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: placing, delete, deleteVen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lba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ion is non-authenticated. Should be fixed. Session key for CB connection should not exp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de effect of callback connection is used for BackFetch bulk transfer of files during reinteg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238880" cy="43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ructure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PC proce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us RPC’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vproc.cc - standard file 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vproc2.cc - standard volume 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aproc.cc - repair stu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aproc2.cc - reintegration stu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til RPC’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-your-rpc.cc (in coda-src/volut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ution: be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PC proce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C structu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eParms: validate, hand off COP2, c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Object: vm copy, lock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eman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urrency, Integrity, Per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oper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lkTransfer, UpdateObjects, OutPa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Object: rvm transactions, inode dele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li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FSObjects: instantiate a v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C needs list of objects copied from R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status is held there (did CopyOnWrite kick in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Objec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vm_begin_trans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lk through the list, copy, rvm_set_range, un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vm_end_trans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2 hand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COP2 Venus give final VV to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sent out by Venus (with some delay) often piggybacked in bu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knows about pending COP2 entries in hash table (coppend.c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r thread CopPending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s every minu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s entries more than 900 sec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2 to R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an b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ggyBacked on another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t in ViceCop2 rp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cases call InternalCop2 (srvproc.c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Cop2  (codaproc.c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ies the manager to de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s the FS objects listed for the CO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s final VV’s into RVM (rvm transaction!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2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y cause of conflicts in replicated volumes when clients access objects in rapid succession. (Can be fixed easily during the writeback caching oper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optimized for singly replicated volum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ted by client with RPC to coord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ceResolve (codaproc.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 up connections in VSG (unauthentica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kAndFetch (res/reslock, resuti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 volum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“closu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lution - special c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DirRequir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vmres/rvmrescoord.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solved ances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ready incon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s (missing obj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 equality (identical store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ovDirResol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II: (rvmres/{rescoord,subphase?}.c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or request logs from other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ordinates lock affected dirs,marshall lo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or merges lo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II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p merged log to subordi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operations on VM cop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results to coordin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IV: (is old Phase 3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 results, compute new VV’s ship to subordin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ata Structure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193040" y="204624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6360" y="2395440"/>
            <a:ext cx="20052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8160" y="3780000"/>
            <a:ext cx="200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08160" y="4224240"/>
            <a:ext cx="2004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8160" y="5170320"/>
            <a:ext cx="20048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3760" y="2046240"/>
            <a:ext cx="200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3760" y="2395440"/>
            <a:ext cx="2005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5560" y="3767040"/>
            <a:ext cx="246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5560" y="4484520"/>
            <a:ext cx="200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65560" y="5170320"/>
            <a:ext cx="200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22960" y="2046240"/>
            <a:ext cx="3070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22960" y="2395440"/>
            <a:ext cx="200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24400" y="3767040"/>
            <a:ext cx="2992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4400" y="4179960"/>
            <a:ext cx="344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24400" y="5170320"/>
            <a:ext cx="200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8840" y="2362320"/>
            <a:ext cx="797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58840" y="3657600"/>
            <a:ext cx="797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8840" y="4114800"/>
            <a:ext cx="797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8840" y="5029200"/>
            <a:ext cx="797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58840" y="6705720"/>
            <a:ext cx="797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65320" y="2057400"/>
            <a:ext cx="797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0240" y="17463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1440" y="1746360"/>
            <a:ext cx="97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13240" y="1746360"/>
            <a:ext cx="223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Resides 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nts on re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versions of resolu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DirResolve: resolve only runts and w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Resolve: resolve only in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the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directory has nothing to do with resolution: should be called librepair. Srv uses merely one function in it - repair uses the 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ume Lo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FS operations, log entries are created for use during resolu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ormat per operation (rvmres/recov_vollog.c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to the vlist by SpoolVMLog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in RVM at comm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ai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nus makes ViceRepair RPC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nd symlink repair: BulkTransfer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ory repair, BulkTransfer the repair file and replay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us follows this with a COP2 multi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directory repair Venus invokes asynchronous resol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is simple and 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little C++: should elimin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multi-th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ility ~8GB in practice, ~40GB in the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handling is bad: tricky to f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code was &amp; is worst: re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VM layout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coda_globals.h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ume zoo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volume.h, camprivate.h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44440"/>
            <a:ext cx="358128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057400"/>
            <a:ext cx="41148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Info 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volume in R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1830240"/>
            <a:ext cx="2136600" cy="534960"/>
            <a:chOff x="2514600" y="1830240"/>
            <a:chExt cx="2136600" cy="534960"/>
          </a:xfrm>
        </p:grpSpPr>
        <p:sp>
          <p:nvSpPr>
            <p:cNvPr id="99" name=""/>
            <p:cNvSpPr/>
            <p:nvPr/>
          </p:nvSpPr>
          <p:spPr>
            <a:xfrm>
              <a:off x="2514600" y="1830240"/>
              <a:ext cx="2136600" cy="534960"/>
            </a:xfrm>
            <a:custGeom>
              <a:avLst/>
              <a:gdLst/>
              <a:ahLst/>
              <a:rect l="l" t="t" r="r" b="b"/>
              <a:pathLst>
                <a:path w="1346" h="337">
                  <a:moveTo>
                    <a:pt x="42" y="0"/>
                  </a:moveTo>
                  <a:lnTo>
                    <a:pt x="28" y="2"/>
                  </a:lnTo>
                  <a:lnTo>
                    <a:pt x="14" y="12"/>
                  </a:lnTo>
                  <a:lnTo>
                    <a:pt x="5" y="26"/>
                  </a:lnTo>
                  <a:lnTo>
                    <a:pt x="0" y="41"/>
                  </a:lnTo>
                  <a:lnTo>
                    <a:pt x="0" y="293"/>
                  </a:lnTo>
                  <a:lnTo>
                    <a:pt x="5" y="310"/>
                  </a:lnTo>
                  <a:lnTo>
                    <a:pt x="14" y="324"/>
                  </a:lnTo>
                  <a:lnTo>
                    <a:pt x="28" y="334"/>
                  </a:lnTo>
                  <a:lnTo>
                    <a:pt x="42" y="336"/>
                  </a:lnTo>
                  <a:lnTo>
                    <a:pt x="1303" y="336"/>
                  </a:lnTo>
                  <a:lnTo>
                    <a:pt x="1322" y="334"/>
                  </a:lnTo>
                  <a:lnTo>
                    <a:pt x="1331" y="324"/>
                  </a:lnTo>
                  <a:lnTo>
                    <a:pt x="1340" y="310"/>
                  </a:lnTo>
                  <a:lnTo>
                    <a:pt x="1345" y="293"/>
                  </a:lnTo>
                  <a:lnTo>
                    <a:pt x="1345" y="41"/>
                  </a:lnTo>
                  <a:lnTo>
                    <a:pt x="1340" y="26"/>
                  </a:lnTo>
                  <a:lnTo>
                    <a:pt x="1331" y="12"/>
                  </a:lnTo>
                  <a:lnTo>
                    <a:pt x="1322" y="2"/>
                  </a:lnTo>
                  <a:lnTo>
                    <a:pt x="1303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1960" y="1897200"/>
              <a:ext cx="189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ol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4920" y="2898720"/>
            <a:ext cx="2136600" cy="533520"/>
            <a:chOff x="304920" y="2898720"/>
            <a:chExt cx="2136600" cy="533520"/>
          </a:xfrm>
        </p:grpSpPr>
        <p:sp>
          <p:nvSpPr>
            <p:cNvPr id="102" name=""/>
            <p:cNvSpPr/>
            <p:nvPr/>
          </p:nvSpPr>
          <p:spPr>
            <a:xfrm>
              <a:off x="304920" y="2898720"/>
              <a:ext cx="2136600" cy="533520"/>
            </a:xfrm>
            <a:custGeom>
              <a:avLst/>
              <a:gdLst/>
              <a:ahLst/>
              <a:rect l="l" t="t" r="r" b="b"/>
              <a:pathLst>
                <a:path w="1346" h="336">
                  <a:moveTo>
                    <a:pt x="42" y="0"/>
                  </a:moveTo>
                  <a:lnTo>
                    <a:pt x="27" y="3"/>
                  </a:lnTo>
                  <a:lnTo>
                    <a:pt x="12" y="10"/>
                  </a:lnTo>
                  <a:lnTo>
                    <a:pt x="2" y="24"/>
                  </a:lnTo>
                  <a:lnTo>
                    <a:pt x="0" y="41"/>
                  </a:lnTo>
                  <a:lnTo>
                    <a:pt x="0" y="294"/>
                  </a:lnTo>
                  <a:lnTo>
                    <a:pt x="2" y="307"/>
                  </a:lnTo>
                  <a:lnTo>
                    <a:pt x="12" y="321"/>
                  </a:lnTo>
                  <a:lnTo>
                    <a:pt x="27" y="332"/>
                  </a:lnTo>
                  <a:lnTo>
                    <a:pt x="42" y="335"/>
                  </a:lnTo>
                  <a:lnTo>
                    <a:pt x="1303" y="335"/>
                  </a:lnTo>
                  <a:lnTo>
                    <a:pt x="1318" y="332"/>
                  </a:lnTo>
                  <a:lnTo>
                    <a:pt x="1333" y="321"/>
                  </a:lnTo>
                  <a:lnTo>
                    <a:pt x="1343" y="307"/>
                  </a:lnTo>
                  <a:lnTo>
                    <a:pt x="1345" y="294"/>
                  </a:lnTo>
                  <a:lnTo>
                    <a:pt x="1345" y="41"/>
                  </a:lnTo>
                  <a:lnTo>
                    <a:pt x="1343" y="24"/>
                  </a:lnTo>
                  <a:lnTo>
                    <a:pt x="1333" y="10"/>
                  </a:lnTo>
                  <a:lnTo>
                    <a:pt x="1318" y="3"/>
                  </a:lnTo>
                  <a:lnTo>
                    <a:pt x="1303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2280" y="2963880"/>
              <a:ext cx="189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olume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427560" y="2898720"/>
            <a:ext cx="2138040" cy="533520"/>
            <a:chOff x="3427560" y="2898720"/>
            <a:chExt cx="2138040" cy="533520"/>
          </a:xfrm>
        </p:grpSpPr>
        <p:sp>
          <p:nvSpPr>
            <p:cNvPr id="105" name=""/>
            <p:cNvSpPr/>
            <p:nvPr/>
          </p:nvSpPr>
          <p:spPr>
            <a:xfrm>
              <a:off x="3427560" y="2898720"/>
              <a:ext cx="2138040" cy="533520"/>
            </a:xfrm>
            <a:custGeom>
              <a:avLst/>
              <a:gdLst/>
              <a:ahLst/>
              <a:rect l="l" t="t" r="r" b="b"/>
              <a:pathLst>
                <a:path w="1347" h="336">
                  <a:moveTo>
                    <a:pt x="45" y="0"/>
                  </a:moveTo>
                  <a:lnTo>
                    <a:pt x="28" y="3"/>
                  </a:lnTo>
                  <a:lnTo>
                    <a:pt x="17" y="10"/>
                  </a:lnTo>
                  <a:lnTo>
                    <a:pt x="6" y="24"/>
                  </a:lnTo>
                  <a:lnTo>
                    <a:pt x="0" y="41"/>
                  </a:lnTo>
                  <a:lnTo>
                    <a:pt x="0" y="294"/>
                  </a:lnTo>
                  <a:lnTo>
                    <a:pt x="6" y="307"/>
                  </a:lnTo>
                  <a:lnTo>
                    <a:pt x="17" y="321"/>
                  </a:lnTo>
                  <a:lnTo>
                    <a:pt x="28" y="332"/>
                  </a:lnTo>
                  <a:lnTo>
                    <a:pt x="45" y="335"/>
                  </a:lnTo>
                  <a:lnTo>
                    <a:pt x="1301" y="335"/>
                  </a:lnTo>
                  <a:lnTo>
                    <a:pt x="1318" y="332"/>
                  </a:lnTo>
                  <a:lnTo>
                    <a:pt x="1335" y="321"/>
                  </a:lnTo>
                  <a:lnTo>
                    <a:pt x="1340" y="307"/>
                  </a:lnTo>
                  <a:lnTo>
                    <a:pt x="1346" y="294"/>
                  </a:lnTo>
                  <a:lnTo>
                    <a:pt x="1346" y="41"/>
                  </a:lnTo>
                  <a:lnTo>
                    <a:pt x="1340" y="24"/>
                  </a:lnTo>
                  <a:lnTo>
                    <a:pt x="1335" y="10"/>
                  </a:lnTo>
                  <a:lnTo>
                    <a:pt x="1318" y="3"/>
                  </a:lnTo>
                  <a:lnTo>
                    <a:pt x="1301" y="0"/>
                  </a:lnTo>
                  <a:lnTo>
                    <a:pt x="45" y="0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46360" y="2963880"/>
              <a:ext cx="189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olume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0040" y="2898720"/>
            <a:ext cx="2973600" cy="533520"/>
            <a:chOff x="230040" y="2898720"/>
            <a:chExt cx="2973600" cy="533520"/>
          </a:xfrm>
        </p:grpSpPr>
        <p:sp>
          <p:nvSpPr>
            <p:cNvPr id="108" name=""/>
            <p:cNvSpPr/>
            <p:nvPr/>
          </p:nvSpPr>
          <p:spPr>
            <a:xfrm>
              <a:off x="230040" y="2898720"/>
              <a:ext cx="2973600" cy="533520"/>
            </a:xfrm>
            <a:custGeom>
              <a:avLst/>
              <a:gdLst/>
              <a:ahLst/>
              <a:rect l="l" t="t" r="r" b="b"/>
              <a:pathLst>
                <a:path w="1873" h="336">
                  <a:moveTo>
                    <a:pt x="42" y="0"/>
                  </a:moveTo>
                  <a:lnTo>
                    <a:pt x="26" y="3"/>
                  </a:lnTo>
                  <a:lnTo>
                    <a:pt x="13" y="10"/>
                  </a:lnTo>
                  <a:lnTo>
                    <a:pt x="3" y="24"/>
                  </a:lnTo>
                  <a:lnTo>
                    <a:pt x="0" y="41"/>
                  </a:lnTo>
                  <a:lnTo>
                    <a:pt x="0" y="294"/>
                  </a:lnTo>
                  <a:lnTo>
                    <a:pt x="3" y="307"/>
                  </a:lnTo>
                  <a:lnTo>
                    <a:pt x="13" y="321"/>
                  </a:lnTo>
                  <a:lnTo>
                    <a:pt x="26" y="332"/>
                  </a:lnTo>
                  <a:lnTo>
                    <a:pt x="42" y="335"/>
                  </a:lnTo>
                  <a:lnTo>
                    <a:pt x="1830" y="335"/>
                  </a:lnTo>
                  <a:lnTo>
                    <a:pt x="1846" y="332"/>
                  </a:lnTo>
                  <a:lnTo>
                    <a:pt x="1859" y="321"/>
                  </a:lnTo>
                  <a:lnTo>
                    <a:pt x="1869" y="307"/>
                  </a:lnTo>
                  <a:lnTo>
                    <a:pt x="1872" y="294"/>
                  </a:lnTo>
                  <a:lnTo>
                    <a:pt x="1872" y="41"/>
                  </a:lnTo>
                  <a:lnTo>
                    <a:pt x="1869" y="24"/>
                  </a:lnTo>
                  <a:lnTo>
                    <a:pt x="1859" y="10"/>
                  </a:lnTo>
                  <a:lnTo>
                    <a:pt x="1846" y="3"/>
                  </a:lnTo>
                  <a:lnTo>
                    <a:pt x="1830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5960" y="2963880"/>
              <a:ext cx="2737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olume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424320" y="3738600"/>
            <a:ext cx="2522520" cy="2284200"/>
            <a:chOff x="3424320" y="3738600"/>
            <a:chExt cx="2522520" cy="2284200"/>
          </a:xfrm>
        </p:grpSpPr>
        <p:sp>
          <p:nvSpPr>
            <p:cNvPr id="111" name=""/>
            <p:cNvSpPr/>
            <p:nvPr/>
          </p:nvSpPr>
          <p:spPr>
            <a:xfrm>
              <a:off x="3424320" y="3738600"/>
              <a:ext cx="2522520" cy="2284200"/>
            </a:xfrm>
            <a:custGeom>
              <a:avLst/>
              <a:gdLst/>
              <a:ahLst/>
              <a:rect l="l" t="t" r="r" b="b"/>
              <a:pathLst>
                <a:path w="1589" h="1439">
                  <a:moveTo>
                    <a:pt x="186" y="0"/>
                  </a:moveTo>
                  <a:lnTo>
                    <a:pt x="150" y="6"/>
                  </a:lnTo>
                  <a:lnTo>
                    <a:pt x="114" y="12"/>
                  </a:lnTo>
                  <a:lnTo>
                    <a:pt x="54" y="54"/>
                  </a:lnTo>
                  <a:lnTo>
                    <a:pt x="30" y="79"/>
                  </a:lnTo>
                  <a:lnTo>
                    <a:pt x="12" y="109"/>
                  </a:lnTo>
                  <a:lnTo>
                    <a:pt x="6" y="139"/>
                  </a:lnTo>
                  <a:lnTo>
                    <a:pt x="0" y="176"/>
                  </a:lnTo>
                  <a:lnTo>
                    <a:pt x="0" y="1256"/>
                  </a:lnTo>
                  <a:lnTo>
                    <a:pt x="6" y="1292"/>
                  </a:lnTo>
                  <a:lnTo>
                    <a:pt x="12" y="1323"/>
                  </a:lnTo>
                  <a:lnTo>
                    <a:pt x="30" y="1359"/>
                  </a:lnTo>
                  <a:lnTo>
                    <a:pt x="54" y="1383"/>
                  </a:lnTo>
                  <a:lnTo>
                    <a:pt x="84" y="1408"/>
                  </a:lnTo>
                  <a:lnTo>
                    <a:pt x="114" y="1426"/>
                  </a:lnTo>
                  <a:lnTo>
                    <a:pt x="150" y="1432"/>
                  </a:lnTo>
                  <a:lnTo>
                    <a:pt x="186" y="1438"/>
                  </a:lnTo>
                  <a:lnTo>
                    <a:pt x="1408" y="1438"/>
                  </a:lnTo>
                  <a:lnTo>
                    <a:pt x="1444" y="1432"/>
                  </a:lnTo>
                  <a:lnTo>
                    <a:pt x="1474" y="1426"/>
                  </a:lnTo>
                  <a:lnTo>
                    <a:pt x="1510" y="1408"/>
                  </a:lnTo>
                  <a:lnTo>
                    <a:pt x="1534" y="1383"/>
                  </a:lnTo>
                  <a:lnTo>
                    <a:pt x="1558" y="1359"/>
                  </a:lnTo>
                  <a:lnTo>
                    <a:pt x="1576" y="1323"/>
                  </a:lnTo>
                  <a:lnTo>
                    <a:pt x="1582" y="1292"/>
                  </a:lnTo>
                  <a:lnTo>
                    <a:pt x="1588" y="1256"/>
                  </a:lnTo>
                  <a:lnTo>
                    <a:pt x="1588" y="176"/>
                  </a:lnTo>
                  <a:lnTo>
                    <a:pt x="1582" y="139"/>
                  </a:lnTo>
                  <a:lnTo>
                    <a:pt x="1576" y="109"/>
                  </a:lnTo>
                  <a:lnTo>
                    <a:pt x="1558" y="79"/>
                  </a:lnTo>
                  <a:lnTo>
                    <a:pt x="1534" y="54"/>
                  </a:lnTo>
                  <a:lnTo>
                    <a:pt x="1474" y="12"/>
                  </a:lnTo>
                  <a:lnTo>
                    <a:pt x="1444" y="6"/>
                  </a:lnTo>
                  <a:lnTo>
                    <a:pt x="1408" y="0"/>
                  </a:lnTo>
                  <a:lnTo>
                    <a:pt x="186" y="0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05040" y="3867120"/>
              <a:ext cx="2162520" cy="20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volumeDisk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smallVnodeL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smallVn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smallL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- same for big 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3736800"/>
            <a:ext cx="2517840" cy="1524240"/>
            <a:chOff x="228600" y="3736800"/>
            <a:chExt cx="2517840" cy="1524240"/>
          </a:xfrm>
        </p:grpSpPr>
        <p:sp>
          <p:nvSpPr>
            <p:cNvPr id="114" name=""/>
            <p:cNvSpPr/>
            <p:nvPr/>
          </p:nvSpPr>
          <p:spPr>
            <a:xfrm>
              <a:off x="228600" y="3736800"/>
              <a:ext cx="2517840" cy="1524240"/>
            </a:xfrm>
            <a:custGeom>
              <a:avLst/>
              <a:gdLst/>
              <a:ahLst/>
              <a:rect l="l" t="t" r="r" b="b"/>
              <a:pathLst>
                <a:path w="1586" h="960">
                  <a:moveTo>
                    <a:pt x="119" y="0"/>
                  </a:moveTo>
                  <a:lnTo>
                    <a:pt x="75" y="10"/>
                  </a:lnTo>
                  <a:lnTo>
                    <a:pt x="52" y="21"/>
                  </a:lnTo>
                  <a:lnTo>
                    <a:pt x="36" y="37"/>
                  </a:lnTo>
                  <a:lnTo>
                    <a:pt x="22" y="53"/>
                  </a:lnTo>
                  <a:lnTo>
                    <a:pt x="11" y="74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0" y="837"/>
                  </a:lnTo>
                  <a:lnTo>
                    <a:pt x="3" y="864"/>
                  </a:lnTo>
                  <a:lnTo>
                    <a:pt x="11" y="885"/>
                  </a:lnTo>
                  <a:lnTo>
                    <a:pt x="22" y="906"/>
                  </a:lnTo>
                  <a:lnTo>
                    <a:pt x="36" y="922"/>
                  </a:lnTo>
                  <a:lnTo>
                    <a:pt x="52" y="938"/>
                  </a:lnTo>
                  <a:lnTo>
                    <a:pt x="75" y="948"/>
                  </a:lnTo>
                  <a:lnTo>
                    <a:pt x="119" y="959"/>
                  </a:lnTo>
                  <a:lnTo>
                    <a:pt x="1463" y="959"/>
                  </a:lnTo>
                  <a:lnTo>
                    <a:pt x="1510" y="948"/>
                  </a:lnTo>
                  <a:lnTo>
                    <a:pt x="1532" y="938"/>
                  </a:lnTo>
                  <a:lnTo>
                    <a:pt x="1549" y="922"/>
                  </a:lnTo>
                  <a:lnTo>
                    <a:pt x="1563" y="906"/>
                  </a:lnTo>
                  <a:lnTo>
                    <a:pt x="1577" y="885"/>
                  </a:lnTo>
                  <a:lnTo>
                    <a:pt x="1582" y="864"/>
                  </a:lnTo>
                  <a:lnTo>
                    <a:pt x="1585" y="837"/>
                  </a:lnTo>
                  <a:lnTo>
                    <a:pt x="1585" y="116"/>
                  </a:lnTo>
                  <a:lnTo>
                    <a:pt x="1582" y="95"/>
                  </a:lnTo>
                  <a:lnTo>
                    <a:pt x="1577" y="74"/>
                  </a:lnTo>
                  <a:lnTo>
                    <a:pt x="1563" y="53"/>
                  </a:lnTo>
                  <a:lnTo>
                    <a:pt x="1549" y="37"/>
                  </a:lnTo>
                  <a:lnTo>
                    <a:pt x="1532" y="21"/>
                  </a:lnTo>
                  <a:lnTo>
                    <a:pt x="1510" y="10"/>
                  </a:lnTo>
                  <a:lnTo>
                    <a:pt x="1463" y="0"/>
                  </a:lnTo>
                  <a:lnTo>
                    <a:pt x="119" y="0"/>
                  </a:lnTo>
                </a:path>
              </a:pathLst>
            </a:custGeom>
            <a:solidFill>
              <a:srgbClr val="ff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9440" y="3838680"/>
              <a:ext cx="22129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arent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219320" y="34369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4369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37024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37024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1520" y="4191120"/>
            <a:ext cx="13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1520" y="4572000"/>
            <a:ext cx="13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2920" y="19810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2920" y="228600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04480" y="1677600"/>
            <a:ext cx="139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55520" y="1998000"/>
            <a:ext cx="2850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vm malloc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umeDiskData (rv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ts of stuff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ty &amp; location: partition, nam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info: use, inService, blessed, salva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node related: next unique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lution flags, pointer to recov_vol_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usage: filecount, diskused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umes in 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 Volumes sit in VolHash with copies of RVM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vage before “attaching” to VolH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of operation (F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Volume copy out from R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your mods in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Volume does RVM trans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of operation (Volutil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on R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umes in Venus RPC’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RPC: GetVolInf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ount point tra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relates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locatio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replicatio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SG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sit in separate Volume Locatio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2:30:54Z</dcterms:created>
  <dc:creator>braam</dc:creator>
  <dc:description/>
  <dc:language>en-US</dc:language>
  <cp:lastModifiedBy>Braam</cp:lastModifiedBy>
  <cp:lastPrinted>1998-06-03T12:42:45Z</cp:lastPrinted>
  <dcterms:modified xsi:type="dcterms:W3CDTF">1998-06-03T12:43:14Z</dcterms:modified>
  <cp:revision>2</cp:revision>
  <dc:subject/>
  <dc:title>Coda Server Internals</dc:title>
</cp:coreProperties>
</file>